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B149-0230-4036-AE2E-638EC219A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1876-8247-4AE0-BA2D-A14F0F727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438-C2A9-4163-A9A4-D6DF492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772-4C0B-4E85-999A-60FF5DFE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FD3-13B1-4A84-B046-21C77BEA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6DB-1C73-43B6-80B2-3370DDC6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DD0-89CA-4336-9795-4B75E649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55E-B7EB-48FD-901D-A204DD5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A33-7C9C-4341-8D61-A6D8F90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BFD-7655-4561-8497-D9CD5D4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222-27FC-4085-AE69-71A0568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FEC-59F0-487D-9C4A-7CBF238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843-1C0D-4DF8-BDD6-DF6E509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38A-EAD3-46DE-9340-47EE2F4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CF7D-6ABF-48E0-AB75-1E239D83A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7/SOA-Condylomata-acuminata-female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upload.wikimedia.org/wikipedia/commons/f/f7/SOA-Condylomata-acuminata-female.jpg"/>
          <p:cNvPicPr/>
          <p:nvPr/>
        </p:nvPicPr>
        <p:blipFill>
          <a:blip r:embed="rId1"/>
          <a:stretch/>
        </p:blipFill>
        <p:spPr>
          <a:xfrm>
            <a:off x="1295280" y="380880"/>
            <a:ext cx="6815160" cy="5043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380880" y="5562720"/>
            <a:ext cx="845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f/f7/SOA-Condylomata-acuminata-female.jp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7:19:19Z</dcterms:created>
  <dc:creator>maxwee01</dc:creator>
  <dc:description/>
  <dc:language>en-US</dc:language>
  <cp:lastModifiedBy>maxwee01</cp:lastModifiedBy>
  <dcterms:modified xsi:type="dcterms:W3CDTF">2010-02-17T17:29:35Z</dcterms:modified>
  <cp:revision>1</cp:revision>
  <dc:subject/>
  <dc:title>Slide 1</dc:title>
</cp:coreProperties>
</file>