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F0D-3172-447F-9956-09AADE40F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01F-F530-4E83-BABB-DCDB3E60A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BA2-9314-4FB9-ADC0-6584FCB9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1AA-64A0-432F-B4F5-5ECEAFF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7C5-D8E2-4E03-BD96-323F52A4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6FF-DC68-448D-8C03-DBE4DE80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E4B-D3EA-4A0A-8B1C-81D7A57A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45A-F26C-4EC6-98BD-ACF2F55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117-3FF1-4EE6-9F72-C46A1C7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E9A-3A08-4027-A28D-1575E5F4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A81-6998-4CC8-A533-0EF0091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72D-D92F-4B64-BA81-6F6C3B12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F54-D2EB-41AA-8478-CB02C94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B73-6BB3-4277-ADDC-6714FBB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423-6C7F-4059-8334-4D58154D9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0/SOA-Condylomata-acuminata-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457200" y="5715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d/d0/SOA-Condylomata-acuminata-ma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upload.wikimedia.org/wikipedia/commons/d/d0/SOA-Condylomata-acuminata-man.jpg"/>
          <p:cNvPicPr/>
          <p:nvPr/>
        </p:nvPicPr>
        <p:blipFill>
          <a:blip r:embed="rId2"/>
          <a:stretch/>
        </p:blipFill>
        <p:spPr>
          <a:xfrm>
            <a:off x="1219320" y="380880"/>
            <a:ext cx="6858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7:19:19Z</dcterms:created>
  <dc:creator>maxwee01</dc:creator>
  <dc:description/>
  <dc:language>en-US</dc:language>
  <cp:lastModifiedBy>maxwee01</cp:lastModifiedBy>
  <dcterms:modified xsi:type="dcterms:W3CDTF">2010-02-17T17:30:00Z</dcterms:modified>
  <cp:revision>2</cp:revision>
  <dc:subject/>
  <dc:title>Slide 1</dc:title>
</cp:coreProperties>
</file>