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CE5D-98D9-48CE-99F9-2FF44524A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l out 2 – 3 key items that would capture the student’s attention.  Then add, “for the complete article. . .”</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FE8D-BF23-4087-9A0E-E8ECDB317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rmission is granted to copy, distribute and/or modify this document under the terms of the </a:t>
            </a:r>
            <a:r>
              <a:rPr b="1" lang="en-US" sz="900" spc="-1" strike="noStrike">
                <a:solidFill>
                  <a:srgbClr val="000000"/>
                </a:solidFill>
                <a:latin typeface="Arial"/>
                <a:ea typeface="Arial"/>
              </a:rPr>
              <a:t>GNU Free Documentation License</a:t>
            </a:r>
            <a:r>
              <a:rPr b="0" lang="en-US" sz="900" spc="-1" strike="noStrike">
                <a:solidFill>
                  <a:srgbClr val="000000"/>
                </a:solidFill>
                <a:latin typeface="Arial"/>
                <a:ea typeface="Arial"/>
              </a:rPr>
              <a:t>, Version 1.2 or any later version published by the Free Software Foundation; with no Invariant Sections, no Front-Cover Texts, and no Back-Cover Texts. A copy of the license is included in the section entitled "GNU Free Documentation License". </a:t>
            </a:r>
            <a:endParaRPr b="0" lang="en-US" sz="9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34F0-96CF-44D6-84E0-BE1779353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ed in acquiring permissions? All content contained in images.MD is for personal use only and is copyrighted by Current Medicine Group LLC except where otherwise specified. For information about acquiring permissions to use any of the images in our library, please contact our permissions department by sending an email to permissions@currentmedicinegroup.com.</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4DB3-D0B0-424E-9153-4C0E8E385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F89B-6925-4F1C-A7CF-B51AE4CDF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 and images on this page are not copyrighted. As a matter of courtesy please credit their use with text that cites Hardin MD/University of Iowa and CDC, and gives the URL of this page. (Creative Commons, Public domain, No rights reserved)</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0576-9C22-453F-8CA3-4A8A6F838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 Pathology: EM: Papilloma Virus (HPV) Description: Electron micrograph of a negatively stained human papilloma virus (HBV) which occurs in human warts. Warts on the hands and feet have never been known to progress to cancer. However, after many years cervical warts can become cancerous. Subjects (names): Topics/Categories: Pathology -- Electron Microscopy (EM) Type: Black &amp; White Print. Black &amp; White Slide Source: Laboratory of Tumor Virus Biology Author: Unknown photographer/artist AV Number: AV-8610-3067 Date Created: October 1986 Date Added: 1/1/2001 Reuse Restrictions: </a:t>
            </a:r>
            <a:r>
              <a:rPr b="1" lang="en-US" sz="1200" spc="-1" strike="noStrike">
                <a:solidFill>
                  <a:srgbClr val="000000"/>
                </a:solidFill>
                <a:latin typeface="Calibri"/>
              </a:rPr>
              <a:t>None</a:t>
            </a:r>
            <a:r>
              <a:rPr b="0" lang="en-US" sz="1200" spc="-1" strike="noStrike">
                <a:solidFill>
                  <a:srgbClr val="000000"/>
                </a:solidFill>
                <a:latin typeface="Calibri"/>
              </a:rPr>
              <a:t> - This image is in the public domain and can be freely reused. Please credit the source and/or author listed above.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C00D-C047-413F-9326-06C0FECBA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9B25-1085-4C83-B6A3-363A82FB1D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D8901-FEFC-4773-8AB5-4CC65B693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76985-11AE-4E16-8275-979B97AD4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27F17-B78A-4110-9748-05DA7649F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69FC0-737F-41D0-8085-4E5FC8F13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05F0-1264-42F7-B7FB-57649E682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59D45-0F3B-40A6-AB3F-97EC38CBF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1F8FA-BA62-4D6D-80BA-5A8CA367A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E2BC0-21D0-4700-8BF4-CFEF09949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E6660-5F9A-479E-A462-EB3A807CA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22D9-B1E7-49CE-963E-3813C13F5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8CAFB-F4BC-4C3F-8E6E-7364706D4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DDE43-8833-4B7D-91E0-32B0F3870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C52A-76E7-472E-94D3-7CDDB1CBD5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library.med.nyu.edu/library/eresources/toolkits/image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health.nytimes.com/health/guides/disease/cervical-cancer/diagnosis-and-screening.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ommons.wikimedia.org/wiki/File:Virus_Replication.sv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visualsonline.cancer.gov/details.cfm?imageid=2255"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www.ansci.wisc.edu/jjp1/ansci_repro/misc/project_websites_08/tues/HPV/Causes.html"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vical Cancer:  Screening &amp; Preven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ove to L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Box 1"/>
          <p:cNvSpPr/>
          <p:nvPr/>
        </p:nvSpPr>
        <p:spPr>
          <a:xfrm>
            <a:off x="1706040" y="685800"/>
            <a:ext cx="6700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zabeth here is the link to the NYUHSL  Im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library.med.nyu.edu/library/eresources/toolkits/image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York Time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health.nytimes.com/health/guides/disease/cervical-cancer/diagnosis-and-screening.htm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us Replication</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2209680" y="1295280"/>
            <a:ext cx="4965840" cy="4586400"/>
          </a:xfrm>
          <a:prstGeom prst="rect">
            <a:avLst/>
          </a:prstGeom>
          <a:ln w="0">
            <a:noFill/>
          </a:ln>
        </p:spPr>
      </p:pic>
      <p:sp>
        <p:nvSpPr>
          <p:cNvPr id="54" name="Rectangle 6"/>
          <p:cNvSpPr/>
          <p:nvPr/>
        </p:nvSpPr>
        <p:spPr>
          <a:xfrm>
            <a:off x="1676520" y="61722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commons.wikimedia.org/wiki/File:Virus_Replication.sv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MD: Incidence</a:t>
            </a:r>
            <a:endParaRPr b="0" lang="en-US" sz="4400" spc="-1" strike="noStrike">
              <a:solidFill>
                <a:srgbClr val="000000"/>
              </a:solidFill>
              <a:latin typeface="Calibri"/>
            </a:endParaRPr>
          </a:p>
        </p:txBody>
      </p:sp>
      <p:sp>
        <p:nvSpPr>
          <p:cNvPr id="5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
          <p:cNvPicPr/>
          <p:nvPr/>
        </p:nvPicPr>
        <p:blipFill>
          <a:blip r:embed="rId1"/>
          <a:stretch/>
        </p:blipFill>
        <p:spPr>
          <a:xfrm>
            <a:off x="1019160" y="1228680"/>
            <a:ext cx="7104240" cy="532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ages MD</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1219320" y="1247760"/>
            <a:ext cx="6970680" cy="53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HPV Virus – Oral Warts</a:t>
            </a:r>
            <a:endParaRPr b="0" lang="en-US" sz="2900" spc="-1" strike="noStrike">
              <a:solidFill>
                <a:srgbClr val="000000"/>
              </a:solidFill>
              <a:latin typeface="Calibri"/>
            </a:endParaRPr>
          </a:p>
        </p:txBody>
      </p:sp>
      <p:sp>
        <p:nvSpPr>
          <p:cNvPr id="62" name="AutoShape 1"/>
          <p:cNvSpPr/>
          <p:nvPr/>
        </p:nvSpPr>
        <p:spPr>
          <a:xfrm>
            <a:off x="0" y="0"/>
            <a:ext cx="6667560" cy="425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3"/>
          <p:cNvSpPr/>
          <p:nvPr/>
        </p:nvSpPr>
        <p:spPr>
          <a:xfrm>
            <a:off x="155520" y="-2041560"/>
            <a:ext cx="6667560" cy="425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
          <p:cNvPicPr/>
          <p:nvPr/>
        </p:nvPicPr>
        <p:blipFill>
          <a:blip r:embed="rId1"/>
          <a:stretch/>
        </p:blipFill>
        <p:spPr>
          <a:xfrm>
            <a:off x="380880" y="1219320"/>
            <a:ext cx="5257800" cy="3392280"/>
          </a:xfrm>
          <a:prstGeom prst="rect">
            <a:avLst/>
          </a:prstGeom>
          <a:ln w="0">
            <a:noFill/>
          </a:ln>
        </p:spPr>
      </p:pic>
      <p:sp>
        <p:nvSpPr>
          <p:cNvPr id="65" name="Rectangle 6"/>
          <p:cNvSpPr/>
          <p:nvPr/>
        </p:nvSpPr>
        <p:spPr>
          <a:xfrm>
            <a:off x="5791320" y="990720"/>
            <a:ext cx="30477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HIV-positive patient was exhibiting signs of a secondary condyloma acuminata infection, i.e., venereal warts. This intraoral eruption of condyloma acuminata, or venereal warts was caused by the human papilloma virus. Though oral HPV is a rare occurrence, HIV reduces the body’s immune response, and therefore, such secondary infections can manifest themselves.</a:t>
            </a:r>
            <a:endParaRPr b="0" lang="en-US" sz="1800" spc="-1" strike="noStrike">
              <a:solidFill>
                <a:srgbClr val="000000"/>
              </a:solidFill>
              <a:latin typeface="Arial"/>
            </a:endParaRPr>
          </a:p>
        </p:txBody>
      </p:sp>
      <p:sp>
        <p:nvSpPr>
          <p:cNvPr id="66" name="Rectangle 7"/>
          <p:cNvSpPr/>
          <p:nvPr/>
        </p:nvSpPr>
        <p:spPr>
          <a:xfrm>
            <a:off x="533520" y="51055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portunistic Infections, Viral, Retroviridae Infections, Sexually Transmitted Diseases, Viral, Virus Diseases, Papovaviridae Infections, Wa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athology: EM: Papilloma Virus (HPV)</a:t>
            </a:r>
            <a:endParaRPr b="0" lang="en-US" sz="4000" spc="-1" strike="noStrike">
              <a:solidFill>
                <a:srgbClr val="000000"/>
              </a:solidFill>
              <a:latin typeface="Calibri"/>
            </a:endParaRPr>
          </a:p>
        </p:txBody>
      </p:sp>
      <p:sp>
        <p:nvSpPr>
          <p:cNvPr id="68" name="AutoShape 2"/>
          <p:cNvSpPr/>
          <p:nvPr/>
        </p:nvSpPr>
        <p:spPr>
          <a:xfrm>
            <a:off x="63360" y="-136440"/>
            <a:ext cx="3905280" cy="520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3" descr=""/>
          <p:cNvPicPr/>
          <p:nvPr/>
        </p:nvPicPr>
        <p:blipFill>
          <a:blip r:embed="rId1"/>
          <a:stretch/>
        </p:blipFill>
        <p:spPr>
          <a:xfrm>
            <a:off x="2514600" y="1263600"/>
            <a:ext cx="3990960" cy="5267520"/>
          </a:xfrm>
          <a:prstGeom prst="rect">
            <a:avLst/>
          </a:prstGeom>
          <a:ln w="0">
            <a:noFill/>
          </a:ln>
        </p:spPr>
      </p:pic>
      <p:sp>
        <p:nvSpPr>
          <p:cNvPr id="70" name="Rectangle 4"/>
          <p:cNvSpPr/>
          <p:nvPr/>
        </p:nvSpPr>
        <p:spPr>
          <a:xfrm>
            <a:off x="1676520" y="64882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visualsonline.cancer.gov/details.cfm?imageid=225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AutoShape 2"/>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4"/>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
          <p:cNvPicPr/>
          <p:nvPr/>
        </p:nvPicPr>
        <p:blipFill>
          <a:blip r:embed="rId1"/>
          <a:stretch/>
        </p:blipFill>
        <p:spPr>
          <a:xfrm>
            <a:off x="4952880" y="1828800"/>
            <a:ext cx="3800520" cy="3505320"/>
          </a:xfrm>
          <a:prstGeom prst="rect">
            <a:avLst/>
          </a:prstGeom>
          <a:ln w="0">
            <a:noFill/>
          </a:ln>
        </p:spPr>
      </p:pic>
      <p:pic>
        <p:nvPicPr>
          <p:cNvPr id="74" name="Picture 6" descr=""/>
          <p:cNvPicPr/>
          <p:nvPr/>
        </p:nvPicPr>
        <p:blipFill>
          <a:blip r:embed="rId2"/>
          <a:stretch/>
        </p:blipFill>
        <p:spPr>
          <a:xfrm>
            <a:off x="228600" y="1905120"/>
            <a:ext cx="4486320" cy="3057480"/>
          </a:xfrm>
          <a:prstGeom prst="rect">
            <a:avLst/>
          </a:prstGeom>
          <a:ln w="0">
            <a:noFill/>
          </a:ln>
        </p:spPr>
      </p:pic>
      <p:sp>
        <p:nvSpPr>
          <p:cNvPr id="75" name="Rectangle 6"/>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3"/>
              </a:rPr>
              <a:t>http://www.ansci.wisc.edu/jjp1/ansci_repro/misc/project_websites_08/tues/HPV/Causes.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7"/>
          <p:cNvSpPr/>
          <p:nvPr/>
        </p:nvSpPr>
        <p:spPr>
          <a:xfrm>
            <a:off x="1472760" y="1371600"/>
            <a:ext cx="503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Wisconsin – Madison:  Animal Sciences</a:t>
            </a:r>
            <a:endParaRPr b="0" lang="en-US" sz="1800" spc="-1" strike="noStrike">
              <a:solidFill>
                <a:srgbClr val="000000"/>
              </a:solidFill>
              <a:latin typeface="Arial"/>
            </a:endParaRPr>
          </a:p>
        </p:txBody>
      </p:sp>
      <p:sp>
        <p:nvSpPr>
          <p:cNvPr id="77" name="TextBox 7"/>
          <p:cNvSpPr/>
          <p:nvPr/>
        </p:nvSpPr>
        <p:spPr>
          <a:xfrm>
            <a:off x="2536560" y="5943600"/>
            <a:ext cx="37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ext slide for more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AutoShape 2"/>
          <p:cNvSpPr/>
          <p:nvPr/>
        </p:nvSpPr>
        <p:spPr>
          <a:xfrm>
            <a:off x="957240" y="-957240"/>
            <a:ext cx="4381560" cy="285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380880" y="0"/>
            <a:ext cx="853452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Cau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uman Papillomavirus is a sexually transmitted disease.  There are 100 types of HPV and about 30 of these cause genital infections such as warts or cervical canc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Genital W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ypically caused by HPV types 6 &amp; 11 (low-risk HPV stra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arely associated with cervical canc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velop when virus infects top layers of skin.  Two thirds of people who have contact with virus, develop war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Cervical Canc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used by HPV types16 &amp; 18 (high-risk HPV stra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virus enters the body through a cut, abrasion or tear in the outer layer of skin.  It invades the cervical tissue cells and transf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netic material.  This leads to abnormal changes in the cel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erous factors have been identified that may increase risk of cervical canc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Risk Fact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lifetime 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risk increases with # of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oung 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women aged 20-24 are most likely to be infec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frequent Pap Te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0-80% of women with newly diagnosed cervical cancer have not had a Pap test in at least 5 yea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bacco u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wice as likely to develop cervical cancer if smo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hemicals in smoke interact with cells of cervix and cause precancerous 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rth Control Pill use for longer than 5 yea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ome hormones present make women more susceptible to HP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akened Immune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ncreases risk of cervical lesions becoming cancero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8:00:23Z</dcterms:created>
  <dc:creator>Ehrman Medical Library</dc:creator>
  <dc:description/>
  <dc:language>en-US</dc:language>
  <cp:lastModifiedBy>obgyn</cp:lastModifiedBy>
  <dcterms:modified xsi:type="dcterms:W3CDTF">2009-06-18T14:32:50Z</dcterms:modified>
  <cp:revision>19</cp:revision>
  <dc:subject/>
  <dc:title>Cervical Cancer:  Screening &amp; Prevention</dc:title>
</cp:coreProperties>
</file>